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5.jpeg" ContentType="image/jpeg"/>
  <Override PartName="/ppt/media/image26.jpeg" ContentType="image/jpeg"/>
  <Override PartName="/ppt/media/image32.jpeg" ContentType="image/jpeg"/>
  <Override PartName="/ppt/media/image6.png" ContentType="image/png"/>
  <Override PartName="/ppt/media/image20.png" ContentType="image/png"/>
  <Override PartName="/ppt/media/image18.png" ContentType="image/png"/>
  <Override PartName="/ppt/media/image34.jpeg" ContentType="image/jpeg"/>
  <Override PartName="/ppt/media/image8.png" ContentType="image/png"/>
  <Override PartName="/ppt/media/image33.png" ContentType="image/png"/>
  <Override PartName="/ppt/media/image9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E37-9EA7-4AB4-B002-4EE51378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E64-C178-4A6B-8BED-A06D951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7C5-8558-4B31-8732-A09B8218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C94-8081-48AD-BDCD-D4D08DD4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EB5-B0CD-4C1C-976E-419AACC2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8986-748E-4A10-8F5D-F68605B0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5DC-C58F-45F6-B376-777265E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14AB-D11B-4911-A67B-81E96807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98E0-B06D-422B-8C89-405CB5A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18DB-429B-4562-BF43-81A8B193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9449-D617-4C9B-BBD4-9AAF7CB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092-0F77-4AF4-B51C-76F6579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F0AE-A134-407F-84E4-8D2CA2E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22CB-FB74-4171-A7FF-C759E64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9581-6945-431B-979A-4247881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935-C06F-4895-9A54-EDD586A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9DF5-607C-41E0-84D5-3C291FBC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E334-F556-4BA9-A8D2-CD88E5CF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483F-9C2A-4205-B299-F8D31D81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B009-2074-467F-9589-A7CF331C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16A2-8DCD-4090-BDB9-05DF664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ABBB-1FC4-425B-A3F6-97CF3FD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51B-7E2E-4C3F-97DE-7F2F67A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11A29-A6DF-411D-BBBB-448C5158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26FB-56CF-4D8C-B2BE-5C3FA54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C389-94C3-48C1-A874-032C4B2D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3F12-F53F-436B-9DD3-A80E6DF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614C-3EEC-4A3D-9471-B1509BB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A472-3C33-4E20-B5E4-72AE17BE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9335-94C2-4355-B9E6-612EAB1D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7E52-70DC-48DC-89AA-0706409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51406-9A3F-4636-A803-B509DA46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989C-5CA3-4E3F-AAE4-6F06972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5A3-04A4-4C1D-9AC9-E4920B2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8A688-553A-4BDF-B510-150C9AA2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D306-4B8B-45C7-BA0B-F4923413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6564-15B4-41B6-ACD0-8B6E795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7789-FF52-4BE1-B473-E49536A8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17864-E3F9-407E-B782-BECD39C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E928B-473C-4452-B84A-52882BF7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83A32-401C-4ACF-8467-A3FACD9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62F5-7FA5-4F62-B6FD-CB8E449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387E-12C7-4CA4-B484-F19EADDD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2EF2-494A-4E1D-9931-6BCFEC18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5CE-3DA1-4552-85C2-CD95C16E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24008-4F4F-445B-8B34-718A94FB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9D420-4312-4D3E-9A86-C5640B57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1577-44D0-48E1-A037-E3C3538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5F32-AD96-4734-9B7D-B737F9D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02F73-A749-4A02-83C5-4D70396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5793-A3CB-42AD-B20C-EEEEBB5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596F-BCC8-46CA-BA2C-80B3224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92D5-838A-48F4-9EB2-C2F41FA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8ACD-E576-494F-A22B-1F83A20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4667A-5F9F-4EB0-A8EF-95C805A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2ED-2A97-41D6-97D3-904AD829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CEA2-5F9C-41BE-A5DD-420B31F7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19C9-97C0-47E9-AF9B-B4EFF566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488AA-2140-43FF-A395-F902881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8FBF4-687C-4912-9A4F-F11E341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CF807-5A85-4B20-B77A-F363021D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7E388-1AE2-4881-AE47-3C93163F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F4C0A-FE7F-4821-ADF6-7B6ECD7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357F1-07C6-4B3C-A9C8-2E63D2EB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9DFD-1F7F-4016-9675-E22D582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8D31-C5D7-450B-8AE9-4D040BD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9DF-9F5A-40E5-BED9-CC45906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DEC2-FF53-4122-8BF3-EB26B4F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2617-B39A-4B3F-B116-97F8C5AD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3A87-E7B2-47F9-88B5-39F1CB5A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B127E-5A50-456B-947B-7BE80CEE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0D8FD-4ADA-49F9-9578-DBDB72AC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F5BBA-7489-4B3A-9886-AC05A16A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1BB7D-7C9E-4F1B-9F89-49C5C189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2B0F-A555-4AD6-9694-64F28519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F666-ED87-4A30-BAAD-8E3676D0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A840-9D50-4E96-91FE-F60247C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509-3A01-49F4-AB18-5F967A01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4479B-2779-4698-A10C-8F459D81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35180-0D7B-418B-A430-4F631188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23111-F8B6-49E1-88CD-AFCB147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0543E-CEC9-42B5-A3A1-AB92CC98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5515-B28B-4441-BE1C-15B17901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0639-1C83-467A-BDDC-5BD83D92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21B9-888C-4102-8F45-6B9C870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E0901-9643-4827-A2D8-CAE1B226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BF98F-1C37-41EE-B8E3-0946562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13EA2-41A8-477E-B5E4-0D53766B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D52-A70B-4854-AEF0-5D59D497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22064-3955-42A4-9170-A2151A2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F43B-966A-4239-BA9F-A6B59DDE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C5142-C18B-4651-AEA2-9650021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10066-AA2A-41CD-BC78-F9B995C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5B59-7B14-483C-8E74-EB515CB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83C1-E016-4FAC-97E1-9AB0DDC7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7839B-4D12-46DF-BEEC-471025E9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F32-4EB3-45F8-8BD3-C3DA1EE0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704B-5B85-439C-BB8E-36C4C0F3F5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A235-E7BB-4F67-9033-7AC2D7A6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9FDE-1173-4FBA-A75F-B6C429930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269-E8E6-4B6B-911B-0B602944D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C21F-6907-4B67-B8E3-1F54E4EC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95CB-8F82-4340-B2DA-B03E81317D1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EF77-4CD1-4B5E-BE15-EF2DD5AFD5E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File:Satellite_image_of_Cape_peninsula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1974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Documents and Settings\sramsey\Local Settings\Temporary Internet Files\Content.IE5\726PDIT4\MC900441846[1].wmf"/>
          <p:cNvPicPr/>
          <p:nvPr/>
        </p:nvPicPr>
        <p:blipFill>
          <a:blip r:embed="rId3"/>
          <a:stretch/>
        </p:blipFill>
        <p:spPr>
          <a:xfrm>
            <a:off x="3429000" y="3200400"/>
            <a:ext cx="2417760" cy="2828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3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010360" cy="162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6"/>
          <p:cNvSpPr/>
          <p:nvPr/>
        </p:nvSpPr>
        <p:spPr>
          <a:xfrm>
            <a:off x="66294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bd8"/>
                </a:solidFill>
                <a:latin typeface="Script MT Bold"/>
              </a:rPr>
              <a:t>Oa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Picture 6" descr="https://mkis4a.pbworks.com/f/Huacachina%20Oasis.jpeg"/>
          <p:cNvPicPr/>
          <p:nvPr/>
        </p:nvPicPr>
        <p:blipFill>
          <a:blip r:embed="rId2"/>
          <a:stretch/>
        </p:blipFill>
        <p:spPr>
          <a:xfrm>
            <a:off x="380880" y="2666880"/>
            <a:ext cx="5410440" cy="33814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3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7622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781680" y="350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519ff"/>
                </a:solidFill>
                <a:latin typeface="Script MT Bold"/>
              </a:rPr>
              <a:t>Mountain ran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Picture 6" descr="Rocky Mountains"/>
          <p:cNvPicPr/>
          <p:nvPr/>
        </p:nvPicPr>
        <p:blipFill>
          <a:blip r:embed="rId2"/>
          <a:stretch/>
        </p:blipFill>
        <p:spPr>
          <a:xfrm>
            <a:off x="533520" y="179856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150400" cy="1354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http://www.musetrek.com/assets/photos/406/406/medium_12889028642632.jpg"/>
          <p:cNvPicPr/>
          <p:nvPr/>
        </p:nvPicPr>
        <p:blipFill>
          <a:blip r:embed="rId2"/>
          <a:stretch/>
        </p:blipFill>
        <p:spPr>
          <a:xfrm>
            <a:off x="4724280" y="2819520"/>
            <a:ext cx="3743280" cy="3381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4" descr="http://t0.gstatic.com/images?q=tbn:ANd9GcQmOxrYNdZVnDZ9ivLZuG_KUtZNiu0_1UBaIbmKOMMHqc04ebaP4inzJjburg"/>
          <p:cNvPicPr/>
          <p:nvPr/>
        </p:nvPicPr>
        <p:blipFill>
          <a:blip r:embed="rId3"/>
          <a:stretch/>
        </p:blipFill>
        <p:spPr>
          <a:xfrm>
            <a:off x="304920" y="3429000"/>
            <a:ext cx="3687480" cy="2762280"/>
          </a:xfrm>
          <a:prstGeom prst="rect">
            <a:avLst/>
          </a:prstGeom>
          <a:ln w="0">
            <a:noFill/>
          </a:ln>
        </p:spPr>
      </p:pic>
      <p:sp>
        <p:nvSpPr>
          <p:cNvPr id="381" name="TextBox 14"/>
          <p:cNvSpPr/>
          <p:nvPr/>
        </p:nvSpPr>
        <p:spPr>
          <a:xfrm>
            <a:off x="16765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60958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Straight Arrow Connector 19" descr=""/>
          <p:cNvPicPr/>
          <p:nvPr/>
        </p:nvPicPr>
        <p:blipFill>
          <a:blip r:embed="rId4"/>
          <a:stretch/>
        </p:blipFill>
        <p:spPr>
          <a:xfrm>
            <a:off x="4498920" y="3230640"/>
            <a:ext cx="22068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Straight Arrow Connector 21" descr=""/>
          <p:cNvPicPr/>
          <p:nvPr/>
        </p:nvPicPr>
        <p:blipFill>
          <a:blip r:embed="rId5"/>
          <a:stretch/>
        </p:blipFill>
        <p:spPr>
          <a:xfrm>
            <a:off x="2365200" y="3230640"/>
            <a:ext cx="17496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85" name="TextBox 22"/>
          <p:cNvGrpSpPr/>
          <p:nvPr/>
        </p:nvGrpSpPr>
        <p:grpSpPr>
          <a:xfrm>
            <a:off x="-79200" y="1139760"/>
            <a:ext cx="2371680" cy="2468520"/>
            <a:chOff x="-79200" y="1139760"/>
            <a:chExt cx="2371680" cy="2468520"/>
          </a:xfrm>
        </p:grpSpPr>
        <p:pic>
          <p:nvPicPr>
            <p:cNvPr id="386" name="TextBox 22" descr=""/>
            <p:cNvPicPr/>
            <p:nvPr/>
          </p:nvPicPr>
          <p:blipFill>
            <a:blip r:embed="rId6"/>
            <a:stretch/>
          </p:blipFill>
          <p:spPr>
            <a:xfrm>
              <a:off x="-79200" y="1139760"/>
              <a:ext cx="237168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0" y="1219320"/>
              <a:ext cx="2209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c99ff"/>
                  </a:solidFill>
                  <a:latin typeface="Century Gothic"/>
                </a:rPr>
                <a:t>The source is the beginning of a river and the mouth is the e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304920" y="347760"/>
            <a:ext cx="8010360" cy="14875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76212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2c"/>
                </a:solidFill>
                <a:latin typeface="Rockwell Condensed"/>
              </a:rPr>
              <a:t>A plateau is a high flat land a plain is not hig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6" descr="http://divingintolearning.wikispaces.com/file/view/Plains.jpg/184778861/Plains.jpg"/>
          <p:cNvPicPr/>
          <p:nvPr/>
        </p:nvPicPr>
        <p:blipFill>
          <a:blip r:embed="rId2"/>
          <a:stretch/>
        </p:blipFill>
        <p:spPr>
          <a:xfrm>
            <a:off x="228600" y="3429000"/>
            <a:ext cx="4154400" cy="2771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media-cdn.tripadvisor.com/media/photo-s/01/6b/49/96/waterberg-plateau-park.jpg"/>
          <p:cNvPicPr/>
          <p:nvPr/>
        </p:nvPicPr>
        <p:blipFill>
          <a:blip r:embed="rId3"/>
          <a:stretch/>
        </p:blipFill>
        <p:spPr>
          <a:xfrm>
            <a:off x="4648320" y="3505320"/>
            <a:ext cx="3962160" cy="26445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676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5791320" y="3048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te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384120" y="-79200"/>
            <a:ext cx="8156520" cy="14572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6"/>
          <p:cNvSpPr/>
          <p:nvPr/>
        </p:nvSpPr>
        <p:spPr>
          <a:xfrm>
            <a:off x="0" y="14479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0042"/>
                </a:solidFill>
                <a:latin typeface="Times New Roman"/>
              </a:rPr>
              <a:t>A glacier moves on land an iceberg is in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http://www.rubypenguin.com/Alaska/Day7/12VassarGlacier02.JPG"/>
          <p:cNvPicPr/>
          <p:nvPr/>
        </p:nvPicPr>
        <p:blipFill>
          <a:blip r:embed="rId2"/>
          <a:stretch/>
        </p:blipFill>
        <p:spPr>
          <a:xfrm>
            <a:off x="228600" y="3581280"/>
            <a:ext cx="3733920" cy="2801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http://www.alaska-in-pictures.com/data/media/19/tracy-arm-iceberg_1377.jpg"/>
          <p:cNvPicPr/>
          <p:nvPr/>
        </p:nvPicPr>
        <p:blipFill>
          <a:blip r:embed="rId3"/>
          <a:stretch/>
        </p:blipFill>
        <p:spPr>
          <a:xfrm>
            <a:off x="4343400" y="3581280"/>
            <a:ext cx="4457880" cy="30006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9"/>
          <p:cNvSpPr/>
          <p:nvPr/>
        </p:nvSpPr>
        <p:spPr>
          <a:xfrm>
            <a:off x="144792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c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10"/>
          <p:cNvSpPr/>
          <p:nvPr/>
        </p:nvSpPr>
        <p:spPr>
          <a:xfrm>
            <a:off x="59436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be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3" descr=""/>
          <p:cNvPicPr/>
          <p:nvPr/>
        </p:nvPicPr>
        <p:blipFill>
          <a:blip r:embed="rId1"/>
          <a:stretch/>
        </p:blipFill>
        <p:spPr>
          <a:xfrm>
            <a:off x="384120" y="92160"/>
            <a:ext cx="8004240" cy="15904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7057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0062"/>
                </a:solidFill>
                <a:latin typeface="Ravie"/>
              </a:rPr>
              <a:t>p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6" descr="http://t2.gstatic.com/images?q=tbn:ANd9GcStIihgQTNKQuC9S4yh2T62yid0XoEOrnJWRir0qUk6ABTktFv6gmbm6LF0uA"/>
          <p:cNvPicPr/>
          <p:nvPr/>
        </p:nvPicPr>
        <p:blipFill>
          <a:blip r:embed="rId2"/>
          <a:stretch/>
        </p:blipFill>
        <p:spPr>
          <a:xfrm>
            <a:off x="838080" y="2362320"/>
            <a:ext cx="5562720" cy="3608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3" descr=""/>
          <p:cNvPicPr/>
          <p:nvPr/>
        </p:nvPicPr>
        <p:blipFill>
          <a:blip r:embed="rId1"/>
          <a:stretch/>
        </p:blipFill>
        <p:spPr>
          <a:xfrm>
            <a:off x="536400" y="146160"/>
            <a:ext cx="8174160" cy="19270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"/>
          <p:cNvSpPr/>
          <p:nvPr/>
        </p:nvSpPr>
        <p:spPr>
          <a:xfrm>
            <a:off x="65530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c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http://upload.wikimedia.org/wikipedia/commons/thumb/1/1d/Satellite_image_of_Cape_peninsula.jpg/250px-Satellite_image_of_Cape_peninsul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819520"/>
            <a:ext cx="5878800" cy="3714480"/>
          </a:xfrm>
          <a:prstGeom prst="rect">
            <a:avLst/>
          </a:prstGeom>
          <a:ln w="0">
            <a:noFill/>
          </a:ln>
        </p:spPr>
      </p:pic>
      <p:sp>
        <p:nvSpPr>
          <p:cNvPr id="353" name="Down Arrow 11"/>
          <p:cNvSpPr/>
          <p:nvPr/>
        </p:nvSpPr>
        <p:spPr>
          <a:xfrm>
            <a:off x="4419720" y="4343400"/>
            <a:ext cx="1218960" cy="121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388c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3" descr=""/>
          <p:cNvPicPr/>
          <p:nvPr/>
        </p:nvPicPr>
        <p:blipFill>
          <a:blip r:embed="rId1"/>
          <a:stretch/>
        </p:blipFill>
        <p:spPr>
          <a:xfrm>
            <a:off x="384120" y="512640"/>
            <a:ext cx="8004240" cy="16272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6" descr="http://gowaterfalling.com/waterfalls/images/full/mi/vslateriverfalls1.jpg"/>
          <p:cNvPicPr/>
          <p:nvPr/>
        </p:nvPicPr>
        <p:blipFill>
          <a:blip r:embed="rId2"/>
          <a:stretch/>
        </p:blipFill>
        <p:spPr>
          <a:xfrm>
            <a:off x="2057400" y="2438280"/>
            <a:ext cx="3124080" cy="416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3" descr=""/>
          <p:cNvPicPr/>
          <p:nvPr/>
        </p:nvPicPr>
        <p:blipFill>
          <a:blip r:embed="rId1"/>
          <a:stretch/>
        </p:blipFill>
        <p:spPr>
          <a:xfrm>
            <a:off x="384120" y="146160"/>
            <a:ext cx="8332920" cy="19270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nap ITC"/>
              </a:rPr>
              <a:t>Volc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9" name="Picture 6" descr="http://upload.wikimedia.org/wikipedia/commons/5/5a/Green_Izalco_Volcano.JPG"/>
          <p:cNvPicPr/>
          <p:nvPr/>
        </p:nvPicPr>
        <p:blipFill>
          <a:blip r:embed="rId2"/>
          <a:stretch/>
        </p:blipFill>
        <p:spPr>
          <a:xfrm>
            <a:off x="609480" y="2235240"/>
            <a:ext cx="5943600" cy="39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3" descr=""/>
          <p:cNvPicPr/>
          <p:nvPr/>
        </p:nvPicPr>
        <p:blipFill>
          <a:blip r:embed="rId1"/>
          <a:stretch/>
        </p:blipFill>
        <p:spPr>
          <a:xfrm>
            <a:off x="530280" y="-12600"/>
            <a:ext cx="7937280" cy="2286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lat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Picture 6" descr="http://media-3.web.britannica.com/eb-media/90/118890-004-8C5E9046.jpg"/>
          <p:cNvPicPr/>
          <p:nvPr/>
        </p:nvPicPr>
        <p:blipFill>
          <a:blip r:embed="rId2"/>
          <a:stretch/>
        </p:blipFill>
        <p:spPr>
          <a:xfrm>
            <a:off x="457200" y="2590920"/>
            <a:ext cx="5878440" cy="388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3" descr=""/>
          <p:cNvPicPr/>
          <p:nvPr/>
        </p:nvPicPr>
        <p:blipFill>
          <a:blip r:embed="rId1"/>
          <a:stretch/>
        </p:blipFill>
        <p:spPr>
          <a:xfrm>
            <a:off x="304920" y="-244440"/>
            <a:ext cx="8431200" cy="261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http://www.geoblox.com/images/ria_coast_cl.jpg"/>
          <p:cNvPicPr/>
          <p:nvPr/>
        </p:nvPicPr>
        <p:blipFill>
          <a:blip r:embed="rId2"/>
          <a:stretch/>
        </p:blipFill>
        <p:spPr>
          <a:xfrm>
            <a:off x="533520" y="2968560"/>
            <a:ext cx="5181480" cy="38894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6553080" y="3429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iner Hand ITC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3" descr=""/>
          <p:cNvPicPr/>
          <p:nvPr/>
        </p:nvPicPr>
        <p:blipFill>
          <a:blip r:embed="rId1"/>
          <a:stretch/>
        </p:blipFill>
        <p:spPr>
          <a:xfrm>
            <a:off x="304920" y="-182520"/>
            <a:ext cx="8875440" cy="20476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"/>
          <p:cNvSpPr/>
          <p:nvPr/>
        </p:nvSpPr>
        <p:spPr>
          <a:xfrm>
            <a:off x="67057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gneto"/>
              </a:rPr>
              <a:t>Glaci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6" descr="http://www.iceagenow.com/Perito_Moreno_Glacier.jpg"/>
          <p:cNvPicPr/>
          <p:nvPr/>
        </p:nvPicPr>
        <p:blipFill>
          <a:blip r:embed="rId2"/>
          <a:stretch/>
        </p:blipFill>
        <p:spPr>
          <a:xfrm>
            <a:off x="609480" y="2133720"/>
            <a:ext cx="5791320" cy="43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3" descr=""/>
          <p:cNvPicPr/>
          <p:nvPr/>
        </p:nvPicPr>
        <p:blipFill>
          <a:blip r:embed="rId1"/>
          <a:stretch/>
        </p:blipFill>
        <p:spPr>
          <a:xfrm>
            <a:off x="231840" y="-85680"/>
            <a:ext cx="8461440" cy="17557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67816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des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icture 6" descr="http://t1.gstatic.com/images?q=tbn:ANd9GcRnuGgjmv5_YxxGWVYEyidaq7bPIamJLJQ_1SDjR_12HtGhXw13liusroWkbg"/>
          <p:cNvPicPr/>
          <p:nvPr/>
        </p:nvPicPr>
        <p:blipFill>
          <a:blip r:embed="rId2"/>
          <a:stretch/>
        </p:blipFill>
        <p:spPr>
          <a:xfrm>
            <a:off x="609480" y="2209680"/>
            <a:ext cx="605952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2:50:16Z</dcterms:created>
  <dc:creator>Barbers Hill ISD</dc:creator>
  <dc:description/>
  <dc:language>en-US</dc:language>
  <cp:lastModifiedBy>BHISD</cp:lastModifiedBy>
  <dcterms:modified xsi:type="dcterms:W3CDTF">2011-09-28T20:12:15Z</dcterms:modified>
  <cp:revision>30</cp:revision>
  <dc:subject/>
  <dc:title>PowerPoint Presentation</dc:title>
</cp:coreProperties>
</file>